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media/laser.wav" ContentType="audio/x-wav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F18-D87F-46E6-940A-B8181B43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4047-BB45-488E-A525-912BD44D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65F7-6AF2-4A0C-BA3C-5DA4CA51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EDE-CFA6-4339-8B00-6C8A9D64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FF54-B033-4136-AF03-29DE758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DB77-A896-4D79-B4C6-708FD901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7BFB-B10B-4C59-9911-99B161CF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BC4-AAFA-4958-989B-7BDC5382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0C0D-639B-42D6-BCD8-BF41EE75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DD9E-A161-473F-A0B2-C6697C4F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F875-34FA-45A6-B1C8-FD3EFC6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AC6-FBD8-451B-9262-CFC76379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2428-7FE8-43CB-A472-77D46955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8079-CD09-498A-9066-85FEE7F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A42A-20E9-4510-9E7C-FD4327C1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4493-7D76-4EE6-BD77-C8D3E70B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0C47-6DD1-4B4A-8562-809C0EAC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981-5C23-46E9-9EEA-3D9A6A7B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EFB-DB95-4BA8-9FA4-449B95CC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E285-3008-4F3A-AA38-60FB212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0BB-FE12-4B4F-953A-D9F0C972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D21-3789-4A86-9700-918943A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BA4-A40D-42E1-90B3-863A1CD1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AEE-A1C7-445B-9022-7896838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8760" y="0"/>
            <a:ext cx="162864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1752480"/>
            <a:ext cx="53150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1480" y="6629400"/>
            <a:ext cx="394344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57160" y="762120"/>
            <a:ext cx="942840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71120" y="61722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FCE-265B-4540-B242-6FDE911D305F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14320" y="61722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372080" y="61722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D5E9-C693-424B-A15F-B8E103E7FCD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8760" y="0"/>
            <a:ext cx="162864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1480" y="2438280"/>
            <a:ext cx="951408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71120" y="61722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17BA-48F5-4741-A73F-14FF0A929610}" type="datetime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514320" y="61722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372080" y="61722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A314-F2C7-48C5-9997-A77B3D121205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531504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Funkcja kwadratow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14080" y="41148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mgr Sabina Wer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1A0-7079-4E0D-B949-DF8AB30695A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ACC1A30-8310-4405-821A-9531BF6D14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Wykres funkcji y = a(x – p)</a:t>
            </a:r>
            <a:r>
              <a:rPr b="0" lang="pl-PL" sz="4400" spc="-1" strike="noStrike" u="sng" baseline="30000">
                <a:solidFill>
                  <a:srgbClr val="cbcbcb"/>
                </a:solidFill>
                <a:uFillTx/>
                <a:latin typeface="Times New Roman"/>
              </a:rPr>
              <a:t>2</a:t>
            </a: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 + q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332160" y="1981080"/>
            <a:ext cx="184932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1849320" cy="259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1849320" cy="25909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38280" y="4495680"/>
            <a:ext cx="51055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4114800" y="1980720"/>
            <a:ext cx="0" cy="3886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76720"/>
            <a:ext cx="1524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4419720"/>
            <a:ext cx="0" cy="12189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6668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x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040" y="2743200"/>
            <a:ext cx="132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(x – p) 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7080" y="5334120"/>
            <a:ext cx="1591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(x – p) 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+ 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6720" y="289548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90600" y="472428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5360" y="4191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6360" y="19810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B85-1A68-4FAD-9AA8-AA77CA4AE66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4CDEB-8DC1-4420-AE86-501D7C8C4F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Równanie kwadratow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Def.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Równanie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f(x) = 0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gdzie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jest funkcją kwadratową, nazywamy równaniem kwadratowym o niewiadomej x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Równaniem kwadratowym jest więc każde równanie, które da się przedstawić w postac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ax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 + bx + c = 0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, gdzie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≠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A5F-DB16-47B9-9487-204A7CD2D3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ADC01-10A1-4236-BC5C-3FB4487738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Liczba rozwiązań równania kwadratoweg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829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śli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&gt; 0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o równanie ax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+ bx + c = 0 ma 2 (różne) rozwiązani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śli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= 0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o równanie ax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+ bx + c = 0 ma 1 (dwukrotne) rozwiązani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śli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&lt; 0,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o równanie ax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+ bx + c = 0 nie ma rozwiązani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310520" y="28638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752480" y="2895480"/>
                <a:ext cx="16002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038480" y="2895480"/>
                <a:ext cx="1582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057400" y="44956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98C-2A2F-4C66-8EFA-3417D0815D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E481C-9D6B-489F-BC75-4AAFF2F367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ele prezentacji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poznanie z definicją funkcji kwadratowe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zedstawianie trójmianu kwadratowego w postaci kanoniczne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kładanie trójmianu kwadratowego na czynniki pierwsz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zedstawianie funkcji kwadratowej na wykre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iązywanie równań kwadratow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4A1-582C-4A70-849F-F17D44A5E4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376A-50F4-439C-A19C-0AE65F33A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Funkcja kwadratow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Def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Funkcją kwadratową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lub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trójmianem kwadratowym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 nazywamy funkcję f określoną wzorem f(x) = ax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+ bx + c dla a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є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R\{0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Dziedziną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funkcji kwadratowej jest zbiór liczb rzeczywistych 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Trójmianem kwadratowym nazywamy również wyrażenie ax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+ bx +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1480" y="5638680"/>
            <a:ext cx="874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790-1F49-4097-B64E-A4DB5E6BA7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431FC-DC2E-4039-8D26-244FAA7F4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Postać kanoniczna trójmianu kwadratoweg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860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Postać kanoniczna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trójmianu kwadratowego wyraża się wzorem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– wyróżnik trójmianu kwadratow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= b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 - 4ac .                    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881320" y="1981080"/>
            <a:ext cx="2971800" cy="198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40040" y="3505320"/>
                <a:ext cx="230364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1D4-68F4-4EB8-8596-A6E54E78F3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26D1D-B36B-4118-ABD6-08F97CD484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Rozkład na czynniki liniow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40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&gt; 0,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o y = a(x – x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(x – x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, gdz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= 0,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o y = a(x – x</a:t>
            </a:r>
            <a:r>
              <a:rPr b="0" lang="pl-PL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, gdzi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Jeśli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&lt; 0,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to trójmian nie rozkłada się na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zynnik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842160" y="1981080"/>
                <a:ext cx="1049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771480" y="5638680"/>
            <a:ext cx="874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1680" y="2492280"/>
                <a:ext cx="1584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848040" y="2565360"/>
                <a:ext cx="1582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903320" y="422100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0247-C9D9-4EB5-B3B8-5E51F839AC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E9F73-ACD1-4901-A5C2-D473CA82B7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Wykres funkcji kwadratowej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Wykresem funkcji kwadratowej jest </a:t>
            </a:r>
            <a:r>
              <a:rPr b="1" i="1" lang="pl-PL" sz="2800" spc="-1" strike="noStrike">
                <a:solidFill>
                  <a:srgbClr val="ffffff"/>
                </a:solidFill>
                <a:latin typeface="Arial"/>
              </a:rPr>
              <a:t>parabol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3083040"/>
            <a:ext cx="2514600" cy="278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4495680" y="2819520"/>
            <a:ext cx="0" cy="3047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495680" y="3580920"/>
            <a:ext cx="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53E-2037-4918-869D-37E57AD6BE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AA3AD-879F-475C-B66D-B207253A3E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Wykres funkcji kwadratowej w zależności od współczynnika 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860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y = ax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                                                                     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x                                                                       x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a &lt; 0                         a &gt;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332400" y="1981080"/>
          <a:ext cx="20685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0" y="1981080"/>
                    <a:ext cx="20685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 flipV="1">
            <a:off x="3505320" y="2742840"/>
            <a:ext cx="0" cy="2057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809880"/>
            <a:ext cx="17528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010280" y="2743200"/>
            <a:ext cx="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3733920"/>
            <a:ext cx="1828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400800" y="2743200"/>
            <a:ext cx="1297080" cy="1001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971800" y="3809880"/>
            <a:ext cx="1295280" cy="10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2C2-5822-4112-8285-C92E665620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AA323-EC8A-4E65-B442-83340CF573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Wykres funkcji y = ax</a:t>
            </a:r>
            <a:r>
              <a:rPr b="0" lang="pl-PL" sz="4400" spc="-1" strike="noStrike" u="sng" baseline="30000">
                <a:solidFill>
                  <a:srgbClr val="cbcbcb"/>
                </a:solidFill>
                <a:uFillTx/>
                <a:latin typeface="Times New Roman"/>
              </a:rPr>
              <a:t>2</a:t>
            </a: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 + q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743200"/>
            <a:ext cx="0" cy="327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3352680"/>
            <a:ext cx="1600200" cy="1409760"/>
          </a:xfrm>
          <a:custGeom>
            <a:avLst/>
            <a:gdLst/>
            <a:ahLst/>
            <a:rect l="l" t="t" r="r" b="b"/>
            <a:pathLst>
              <a:path w="1008" h="888">
                <a:moveTo>
                  <a:pt x="0" y="0"/>
                </a:moveTo>
                <a:cubicBezTo>
                  <a:pt x="12" y="160"/>
                  <a:pt x="24" y="320"/>
                  <a:pt x="48" y="432"/>
                </a:cubicBezTo>
                <a:cubicBezTo>
                  <a:pt x="72" y="544"/>
                  <a:pt x="96" y="608"/>
                  <a:pt x="144" y="672"/>
                </a:cubicBezTo>
                <a:cubicBezTo>
                  <a:pt x="192" y="736"/>
                  <a:pt x="256" y="792"/>
                  <a:pt x="336" y="816"/>
                </a:cubicBezTo>
                <a:cubicBezTo>
                  <a:pt x="416" y="840"/>
                  <a:pt x="528" y="888"/>
                  <a:pt x="624" y="816"/>
                </a:cubicBezTo>
                <a:cubicBezTo>
                  <a:pt x="720" y="744"/>
                  <a:pt x="848" y="520"/>
                  <a:pt x="912" y="384"/>
                </a:cubicBezTo>
                <a:cubicBezTo>
                  <a:pt x="976" y="248"/>
                  <a:pt x="992" y="64"/>
                  <a:pt x="1008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23623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43400" y="22860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962520"/>
            <a:ext cx="34290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62520" y="2209680"/>
            <a:ext cx="1676160" cy="1839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67616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 flipV="1">
            <a:off x="4648320" y="434340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962520"/>
            <a:ext cx="0" cy="7617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809880"/>
            <a:ext cx="0" cy="8384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000" y="365760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396252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520" y="388620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724280" y="1980720"/>
            <a:ext cx="0" cy="3886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200" y="19810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15000" y="2438280"/>
            <a:ext cx="744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x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920" y="4419720"/>
            <a:ext cx="1064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x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+ 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FCAD-A6DE-4D7E-B102-82E8D5F131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35B29-9FFD-4BEC-8933-636728E3D0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 u="sng">
                <a:solidFill>
                  <a:srgbClr val="cbcbcb"/>
                </a:solidFill>
                <a:uFillTx/>
                <a:latin typeface="Times New Roman"/>
              </a:rPr>
              <a:t>Wykres funkcji y = a(x – p)</a:t>
            </a:r>
            <a:r>
              <a:rPr b="0" lang="pl-PL" sz="4400" spc="-1" strike="noStrike" u="sng" baseline="30000">
                <a:solidFill>
                  <a:srgbClr val="cbcbcb"/>
                </a:solidFill>
                <a:uFillTx/>
                <a:latin typeface="Times New Roman"/>
              </a:rPr>
              <a:t>2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76720" y="2057400"/>
            <a:ext cx="1904760" cy="3048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905120" cy="3048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4114800" y="1980720"/>
            <a:ext cx="0" cy="3886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029200"/>
            <a:ext cx="41148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429000"/>
            <a:ext cx="99036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4648320"/>
            <a:ext cx="10670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657600"/>
            <a:ext cx="9907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8680" y="48769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8320" y="18669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96800" y="327672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56880" y="304812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080" y="4267080"/>
            <a:ext cx="29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266688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x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4640" y="4419720"/>
            <a:ext cx="1329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y = a(x – p) </a:t>
            </a:r>
            <a:r>
              <a:rPr b="1" lang="pl-PL" sz="14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16A6-7D71-4014-98FB-45C35B48D3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9861C-B9AF-43FF-A609-1D30645EC4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ABINA</cp:lastModifiedBy>
  <dcterms:modified xsi:type="dcterms:W3CDTF">2004-11-15T19:15:32Z</dcterms:modified>
  <cp:revision>12</cp:revision>
  <dc:subject/>
  <dc:title>Prezentacja programu PowerPoint</dc:title>
</cp:coreProperties>
</file>